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D8E-BAE0-4D4E-90BE-BAEA5DE3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9DE-B9CB-4400-927F-1FE1E900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05981-9628-4DCD-8533-7173B3E4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B6BDC-8105-492B-956E-ED09F0AB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36981-01EC-4523-A838-B838624C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E2C6E-D33B-4CB5-8393-FB3ED0C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CB03D-D611-4505-A7CC-30C64D1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0E783-DC39-4E79-AF7F-453A45A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E0DD3-8963-45FC-8F2F-0C8E4C1F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1E1CA-49E0-4899-BA75-652ED08C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AACCD-D1AD-4590-BAE9-BC5EAE9C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75EEC-A058-44F6-A2DA-8F68D796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7F6-DB83-4ACE-B5C5-7C5F7C84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936FC-8EB8-4AB2-A485-CE8AEB78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16A0B-3A2F-412F-A110-24AD5A8C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2906F-2F5E-44FA-90B9-DF96179D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607F3-9741-4F3F-926E-CCB04765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A9A06-45BB-43A3-AA15-9760D743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A4F86-700B-47F6-B17E-69A4520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482ABD-3409-4DEC-8105-582EDF0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F3027-D4EE-46DC-BAFD-BD7BFBE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4AF31-1A4C-428F-BAF3-C782E84A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141A5-675F-4734-AA35-1FCA6873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909-B611-498F-86B4-D765801E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0A5F4-60F0-4F6C-93E7-887E2852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B1EE8-5ACF-4072-96E4-FA71B319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C4DED-BF03-4207-A699-78F096C4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1DF33-242F-4B59-8859-D296005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AF064-2B6F-46C3-88D3-E9278328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74494-036A-47F7-832B-7DCCCF4A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BADF6-3FB2-4893-BC0E-FD30F0FF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80AFA-0D99-4AF1-BE76-60962AC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D457B-C17E-407E-93F4-2DA0EF17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73CDF-4D46-448D-BD33-E8AD710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974C-4F45-41E5-8A8C-7644665B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7583F-61AE-4238-AD5A-8996E81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EDC21-CE02-4E8D-93E4-72C84421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90685-7D25-4BE5-A799-DCB73A92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350BB-78CF-49A5-A3C5-FB28C8A2E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0A0CC-83AA-41E5-928F-BAF3A36D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614B3-4A86-4F6E-B396-A9CA9D06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90FD-C877-49C1-BDB8-B548CA5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59C6B-47C0-4BFE-B20D-679F4FBF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4DF99-043D-461B-A059-C034CCC5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ED94A-92C6-4EB3-AB87-F38AF715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23C7-E06B-4C4F-87E8-7A5A1F3A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D04CC-418F-4779-91A0-2EC52C5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6174A-824C-408F-820D-A3FD1573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8B08A-265A-4B5A-8F67-2E7109A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F2C9C-103B-45A5-AFA8-56D9D02D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6B7645-0D78-4D02-8BD6-C809B928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B91BD-744B-4579-A5A3-BD5E6C31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0A301-CD6F-4F6D-8B4A-9BE7B8F0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A41DC5-FE70-4415-B323-D66D3D5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4AE73-6A6C-41BC-9F2E-B81C22FA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04B73-BCB6-402A-8547-AFCFAD83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373E-673B-4E97-A500-350B0E34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7ACDC-8E47-43DD-A6D2-73F2E848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C2941-6DD9-4523-ABD3-7F5F1E17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FC38A-A7D5-46A5-9ED4-F62E64DB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89357-AB36-4EF7-977B-DAEBE23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A3CAE-54C1-476F-8033-6C22FB53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9CE1C-8B47-4191-86DA-44C2B1C7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1A4B0-B9C2-4C6E-961B-8D99581E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B618-5B73-44AF-9407-BACFBC6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847A-BE66-4129-98F2-7945E757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EC14-4609-4E04-AA4A-39C1053F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1C1-3D6B-4BCC-9413-C9E1534E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64D-5434-4F3D-A461-90344E37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3983-8A3C-402A-B598-4BF73EAF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EA30-62AA-462D-8024-43B5079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CB9F-DFB4-4586-A41E-7AC28274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CA1C-EB00-4081-B1D8-7050332C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0B19-C842-4DBF-B17B-3B1584E0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A736-F6F6-48A8-B839-DD626E10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C067-F8CC-42E9-A7CA-E38BBE3D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DEE6-0A61-4C01-967B-2D557D76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6D62-0A80-4884-8E55-8B049C79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AE20-577F-48A6-937A-4D7C6A7D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2C6-6FAA-48CA-9A24-79A370E8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2FD7-2BBE-4DDA-AEC7-4E0B3C54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70DB4-32D8-43F6-A7D3-3683FCE7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ECB41-B1DF-41E9-928D-3BD6657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19A0D-2C04-4B20-AFCF-6C40DC5A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7AB8-01BB-40D3-9F96-A800C4EA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7513-B822-44F3-B3E7-3B8AC0BC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FECC4-2DFA-4C08-AA7B-1B29D974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703B2-8913-4972-BA14-682DBD3F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85F5-8D10-498A-8C31-9D0C178A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1D00-17CC-4A26-8E9A-A511CEC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619-65C2-48B8-BBBD-56949A6F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3AE5-DF64-4DC5-986C-333F9710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BC1F-961D-4C9D-8F27-C334422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E764-BDAC-4526-BB95-C80B1CA5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137F-6945-42AF-9837-2ACE5FCD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CF2E-B93E-44F5-A663-3A73C0D1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AB988-7AA1-4118-9D24-DAF94BB4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F5726-EFF0-4CB2-808E-7C2BB40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2E69-21CD-4147-82EE-4D6A704E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CC05-3838-4850-B28B-0AA24DE9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53950-D898-477C-890C-94E12C72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99F-D22E-4BEF-8A01-AD130304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0E43-7CF1-4EB5-9A3A-76CDE522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C67E1-9379-48A4-B06C-F1CA1896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31EC2-5D40-4CA4-AC16-B6CAE445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C1595-A8EF-4082-9E11-D75E8B9F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59734-99A2-4EF4-A365-07C6A6B5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3B25-E13D-4490-BE74-C38BF20E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C64E-7ABD-4E10-BCA5-2A417507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531FE-6F50-4CB8-A1A1-1FF2D185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14833-5E1C-4CE7-98DE-92F7577D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1A1F-C7D4-4DBF-8AB5-A7CA2CBB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7E3-7D57-49F9-9221-403A4F15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1F70E-947E-4294-AAF8-715B8D66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DD860-7252-411C-BF61-EE9D385A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2ED2A-2220-4E69-B7FC-AAF46AC5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432A-E4EC-481A-949D-9B6336F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2FAE4-33FC-4E72-B7ED-1A4E57A5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40F72-F4E1-4215-8ACF-F55E5B8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4F7AC-7F7F-46C4-8EDF-42197803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EDD4-ED80-429D-AC01-D07913BE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0AA1A-EEA7-4D65-9605-C6B0F16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85933-9133-4C31-A38E-0CA32CDD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688-D827-475B-93FB-1D0849F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E7E8-593B-4B2D-907E-52650703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C3283-9DF2-4816-9F3A-9DC16BF3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E12A8-B36F-49EF-9A69-4D7EDA0A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76BD9-FC60-4D93-8680-2E8DD975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28289-8D79-4B9B-955D-032512C9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2031A-A480-469E-9310-55E75400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26E3C-7639-489A-A124-7ECCAB16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E1B28-69BE-4044-B95C-3485BBCC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4DF0-64F2-4E23-9290-C931A214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9D0D1-6C0F-4DAC-8086-0E4E58ED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FD9-D8C0-4E61-8ED4-B73BA80E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885CB-6020-44DD-B904-1936348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99E6-D4B2-4BD8-B71A-DE55C89F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3E0E0-4726-48B2-9F25-6A0690F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0C3E4-75E2-421B-A512-DB1E09B9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1650B-E370-4915-83A4-7726CB56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A9F2-3ABB-4177-BC07-3706216C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EBE09-7C25-43D8-A5DE-458A1621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5A7D4-7591-4467-B621-15F03215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5FBF-C045-49EE-9AAF-DBDA8383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1C7FE-B43C-421E-B162-62644425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C0D-8365-4802-9835-AB635959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D52F3-A6C6-48D5-9A12-D7DEC75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765D-375A-49AA-BA07-9C8EB434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74979-5B64-4EE2-8A1C-67771D18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86588-DB4F-44CA-955F-6C688C84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CCC97-1A4F-424E-9332-4DBFC679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BBCB-A259-4265-9404-57406D33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9EE7D-18F1-48D3-8C15-B31FB3E7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4C658-36D2-42C3-93C8-51C9FCD6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DA708-BD60-40F9-A57E-AAE2D524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AF14D-3924-43C0-B1B2-6533837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59F1-0A30-4FF3-B8BB-CB5BFCD1EE8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4B9-DD41-498F-A415-E33236F3E3B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C473-AEB9-4ECE-96F2-748EA79093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A316-8665-4885-AD3B-760F9F4F789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1A82-B258-4EE3-A472-3530E7D1442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94F7-2F51-45A0-82DF-2BDF21DB109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7B7-21BA-4C68-B7D2-95DEB599146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16FE-684F-4208-BAB5-011CEAE674B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5364-155D-4E30-AC36-8B9EE27A06D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F521-01AC-4218-9CC1-C52F3086D85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68A4-69FF-46ED-8ECE-8572C690D7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D8CF-86E5-470C-B1E0-2074A15F927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46CE-8729-4906-9328-14EB8468849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olika je sn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7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68360" y="1844280"/>
            <a:ext cx="799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ko se u razredu najbrže penje uz už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ko je od dvoje najbržih snažnij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smo na fizikalan način provjeril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moramo mjeriti?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Vrijeme u fizici označava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vremenski interval između dvaju događaja, trajan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rijeme mjerimo ga pomoću sata ili zaporne 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nak za vrijeme je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a mjerna jedinica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ekunda, 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nagu u fizici iskazujemo fizičkom veličinom koju označavamo sa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68360" y="1266840"/>
            <a:ext cx="84247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nag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je jednaka količniku rada </a:t>
            </a:r>
            <a:r>
              <a:rPr b="1" i="1" lang="pl-PL" sz="32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vremen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u kojemu je rad obavlj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nagu možemo izraziti i preko promjene energi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0" y="12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1" name="Slika 1" descr=""/>
          <p:cNvPicPr/>
          <p:nvPr/>
        </p:nvPicPr>
        <p:blipFill>
          <a:blip r:embed="rId4"/>
          <a:stretch/>
        </p:blipFill>
        <p:spPr>
          <a:xfrm>
            <a:off x="1616040" y="4581360"/>
            <a:ext cx="7331040" cy="1506600"/>
          </a:xfrm>
          <a:prstGeom prst="rect">
            <a:avLst/>
          </a:prstGeom>
          <a:ln w="0">
            <a:noFill/>
          </a:ln>
        </p:spPr>
      </p:pic>
      <p:pic>
        <p:nvPicPr>
          <p:cNvPr id="562" name="Slika 2" descr=""/>
          <p:cNvPicPr/>
          <p:nvPr/>
        </p:nvPicPr>
        <p:blipFill>
          <a:blip r:embed="rId5"/>
          <a:stretch/>
        </p:blipFill>
        <p:spPr>
          <a:xfrm>
            <a:off x="1913040" y="2189160"/>
            <a:ext cx="526248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53880" y="133992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a jedinica za snagu vat (znak W) izvedena je iz mjernih jedinica za rad i za vrijeme, tj. džula i seku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ristimo i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ilovat, 1 kW = 1 000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egavat, 1 MW = 1 000 000 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i-FI" sz="3200" spc="-1" strike="noStrike">
                <a:solidFill>
                  <a:srgbClr val="000000"/>
                </a:solidFill>
                <a:latin typeface="Calibri"/>
              </a:rPr>
              <a:t>gigavat, 1 GW = 1 000 000 000 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" descr=""/>
          <p:cNvPicPr/>
          <p:nvPr/>
        </p:nvPicPr>
        <p:blipFill>
          <a:blip r:embed="rId6"/>
          <a:stretch/>
        </p:blipFill>
        <p:spPr>
          <a:xfrm>
            <a:off x="3492360" y="3284640"/>
            <a:ext cx="1095480" cy="85716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3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rimjeri nekih snag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0" name="Rezervirano mjesto sadržaja 5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64818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rimjeri računskih zadata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916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u snagu ima uređaj koji za dvadeset minuta obavi rad 720000 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ku ste snagu primijenili na svladavanje sile trenja od 100 N na putu dugom 150 cm tijekom jedne minu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Motor dizala podigne teret mase 500 kg na visinu 75 m za 30 s. Kolika mu je snag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4.Trčeći uz stube popnete se na 4. kat (15 m visoko) za dvije minute. Kolika vam je snaga potrebna za t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79280" y="347400"/>
            <a:ext cx="82296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Džul, vat njutnmetar i kilovat mjerne su jedinice. Kojim jedinicama iskazujete energiju ,a kojima snag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je fizičke veličine trebate izmjeriti da biste odredili snagu kojom se uspinjete na prvi kat škol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liki rad obavi elektromotor snage 3kW u pola s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8" name="Slika 1" descr=""/>
          <p:cNvPicPr/>
          <p:nvPr/>
        </p:nvPicPr>
        <p:blipFill>
          <a:blip r:embed="rId4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3:32:04Z</dcterms:created>
  <dc:creator>Mladen Vidović</dc:creator>
  <dc:description/>
  <dc:language>en-US</dc:language>
  <cp:lastModifiedBy>MArina Dumančić</cp:lastModifiedBy>
  <dcterms:modified xsi:type="dcterms:W3CDTF">2019-09-14T14:30:49Z</dcterms:modified>
  <cp:revision>35</cp:revision>
  <dc:subject/>
  <dc:title>Snaga</dc:title>
</cp:coreProperties>
</file>